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65" t="0" r="1312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5024520" y="5494320"/>
            <a:ext cx="3247920" cy="361080"/>
            <a:chOff x="5024520" y="5494320"/>
            <a:chExt cx="3247920" cy="361080"/>
          </a:xfrm>
        </p:grpSpPr>
        <p:sp>
          <p:nvSpPr>
            <p:cNvPr id="2" name=""/>
            <p:cNvSpPr/>
            <p:nvPr/>
          </p:nvSpPr>
          <p:spPr>
            <a:xfrm>
              <a:off x="5024520" y="5494320"/>
              <a:ext cx="32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60520" y="5518080"/>
              <a:ext cx="13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EngravrsRoman BT"/>
                </a:rPr>
                <a:t>VBS Dire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2156040" y="1112760"/>
            <a:ext cx="48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ravrsRoman BT"/>
              </a:rPr>
              <a:t>&lt;CHURCH NAME HER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rsRoman BT"/>
              </a:rPr>
              <a:t>&lt;YEAR&gt; Vacation Bib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443320" y="3260880"/>
            <a:ext cx="425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ngravrsRoman BT"/>
              </a:rPr>
              <a:t>Has Received Training as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ngravrsRoman BT"/>
              </a:rPr>
              <a:t>Apprentice Builder in God’s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ngravrsRoman BT"/>
              </a:rPr>
              <a:t>&lt;VBS DATE HER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95160" y="4478400"/>
            <a:ext cx="1898640" cy="1498680"/>
            <a:chOff x="695160" y="4478400"/>
            <a:chExt cx="1898640" cy="1498680"/>
          </a:xfrm>
        </p:grpSpPr>
        <p:grpSp>
          <p:nvGrpSpPr>
            <p:cNvPr id="7" name=""/>
            <p:cNvGrpSpPr/>
            <p:nvPr/>
          </p:nvGrpSpPr>
          <p:grpSpPr>
            <a:xfrm>
              <a:off x="874800" y="4551480"/>
              <a:ext cx="1538280" cy="1355760"/>
              <a:chOff x="874800" y="4551480"/>
              <a:chExt cx="1538280" cy="1355760"/>
            </a:xfrm>
          </p:grpSpPr>
          <p:pic>
            <p:nvPicPr>
              <p:cNvPr id="8" name="" descr=""/>
              <p:cNvPicPr/>
              <p:nvPr/>
            </p:nvPicPr>
            <p:blipFill>
              <a:blip r:embed="rId3"/>
              <a:srcRect l="46328" t="21381" r="26016" b="55866"/>
              <a:stretch/>
            </p:blipFill>
            <p:spPr>
              <a:xfrm>
                <a:off x="874800" y="4551480"/>
                <a:ext cx="1538280" cy="13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 txBox="1"/>
              <p:nvPr/>
            </p:nvSpPr>
            <p:spPr>
              <a:xfrm>
                <a:off x="1220760" y="5277960"/>
                <a:ext cx="846000" cy="1641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6657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0080"/>
                    </a:solidFill>
                    <a:latin typeface="AvantGarde Bk BT"/>
                  </a:rPr>
                  <a:t>1 Peter 2:5</a:t>
                </a:r>
                <a:endParaRPr b="1" lang="en-US" sz="24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0080"/>
                  </a:solidFill>
                  <a:latin typeface="AvantGarde Bk BT"/>
                  <a:ea typeface="AvantGarde Bk BT"/>
                </a:endParaRPr>
              </a:p>
            </p:txBody>
          </p:sp>
        </p:grpSp>
        <p:sp>
          <p:nvSpPr>
            <p:cNvPr id="10" name=""/>
            <p:cNvSpPr txBox="1"/>
            <p:nvPr/>
          </p:nvSpPr>
          <p:spPr>
            <a:xfrm>
              <a:off x="888840" y="5746680"/>
              <a:ext cx="1513080" cy="230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0080"/>
                  </a:solidFill>
                  <a:latin typeface="AvantGarde Md BT"/>
                </a:rPr>
                <a:t>One Soul At A Time</a:t>
              </a:r>
              <a:endPara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vantGarde Md BT"/>
                <a:ea typeface="AvantGarde Md BT"/>
              </a:endParaRPr>
            </a:p>
          </p:txBody>
        </p:sp>
        <p:sp>
          <p:nvSpPr>
            <p:cNvPr id="11" name=""/>
            <p:cNvSpPr txBox="1"/>
            <p:nvPr/>
          </p:nvSpPr>
          <p:spPr>
            <a:xfrm>
              <a:off x="695160" y="4478400"/>
              <a:ext cx="1898640" cy="43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0690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0080"/>
                  </a:solidFill>
                  <a:latin typeface="AvantGarde Bk BT"/>
                </a:rPr>
                <a:t>Building Up God's House</a:t>
              </a:r>
              <a:endParaRPr b="1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vantGarde Bk BT"/>
                <a:ea typeface="AvantGarde Bk BT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7080120" y="6524640"/>
            <a:ext cx="19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ff"/>
                </a:solidFill>
                <a:latin typeface="Arial"/>
                <a:ea typeface="Arial"/>
              </a:rPr>
              <a:t>© BibleSchoolResources.n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14560" y="2363760"/>
            <a:ext cx="513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Garamond"/>
              </a:rPr>
              <a:t>&lt;Child’s Name Her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ra S. Tinnel</cp:lastModifiedBy>
  <dcterms:modified xsi:type="dcterms:W3CDTF">2010-05-11T12:29:19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